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8F05-D7ED-4EE6-90B6-0E391127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B340-4993-4BBD-B272-337122F8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E32-D61A-4C90-BF26-F6529318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19A-0017-4F0A-AFE1-77BA5991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C8D-F8CA-4F01-B86B-E5FFE930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6BEA-F2CF-49A0-89C2-CB9F1E1B5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2F5-8690-4BB6-9CFB-7428C5A0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04B-597E-4A4E-AD24-00F3634A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B3C-B0BD-4574-B68C-6BE3EBB10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C9F-73D5-4BB6-8FD9-AB340D4D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9456-5773-4A1A-B56B-72BF655C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9875-1388-4E44-BD85-F8EC6AB1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E4AF-0D75-4C70-B41B-18DDCF00D7D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209520"/>
            <a:ext cx="8136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353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ن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يونس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نبي الله يونس عليه السلام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0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إس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نبوة و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توحيد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عوة للإيمان بالرسالات السماو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قصة يونس عليه ال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نجاة قوم يونس لما آم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3T20:49:25Z</dcterms:modified>
  <cp:revision>1788</cp:revision>
  <dc:subject/>
  <dc:title>عرض تقديمي في PowerPoint</dc:title>
</cp:coreProperties>
</file>